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E1A-79A5-4B26-A9FC-D14962C4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2A7-D7BD-4AF5-A55D-DAF5C398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BAF-6B97-4BFA-95C3-A5EF904A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B33-5922-45BC-B195-848CB606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216D-345A-443A-8EA0-A62330F6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15EC-DEC8-4D90-B0C4-28E68089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A931-C90B-489D-8314-41E86F0B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FF37-5058-44D4-A06A-5BA5574B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76C9-ABE9-423C-BA8E-C8DA7C53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4C35-C6E1-45E0-98A9-58EF9B1F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4EF5-1FBE-4AE6-A98B-047A36E7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6C4-0F26-4312-A07D-CA9BC62D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1BC2-4380-4631-8784-2DF6C1C4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DFBA-7AE8-4137-96A4-9D53B526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6998-83F4-4BB9-89A7-75E33905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8627-BE5F-4365-92FE-C2586432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CC93-7734-497A-B804-66C4CA2C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6A4-5C4C-4B62-A4AC-CEC7C698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4E6-3F85-4BB8-BB2A-634AC0BA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185-D7E7-4C4F-BAEA-3F7A9944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DA6-48B8-4C3D-AE51-5550061E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2E0-C9B0-4DFF-ACDA-400312D3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589-FC5D-4218-8C32-D7D317AC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F7A-6CBF-4C58-BFDB-CC508D64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2227-57D6-4502-A51B-C08B2B1FDAF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F21F-6AB5-4DF4-854B-D2F20F316B0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Lesson #10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Topic: Coriolis Effect and Circular Motion Review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lain the Coriolis effect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Circular mo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cribe inertial and non-inertial reference fr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lve circular motion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19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6095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iform and Non-Uniform circular mo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419720"/>
            <a:ext cx="8077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 boy is sitting on the edge of a merry go round, and a girl is sitting in the center. While they are rotating they are going to try and play catch with a tennis ball. How must the girl throw the ball in order to successfully toss the ball to the boy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rse Square La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sily seen when looking at the surface area of two spheres, one with radius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and one with radius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2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ton used the moon to discover the inverse law relationship of the gravitational forc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nd that the centripetal acceleration of the moon was 1/3600 of the acceleration of gravity on the earth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also knew that the distance to the moon was about 60 times the Earth’s radiu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the relationship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vitational Constant 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overed by Henry Cavendish in 179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d very precise measurements in small movements observed between two large spheres and two small sphe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257800" y="3048120"/>
            <a:ext cx="2590920" cy="327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27432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iolis Ef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 an object moves radially outward from the center of a rotating platform, its tangential velocity will remain consta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velocity is slower than the tangential velocity of a point on the platform farther away from the cent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makes the moving object appear to curve or change direction when there is no force external force applied to i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iolis Ef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xample of this effect can been seen in hurricanes and cyclon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429000" cy="2293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3276360" cy="2222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14400" y="487692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always will spin counterclockwise in the northern hemisphere and clockwise in the southern hemisp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you explain why this occu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iolis Ef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312408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505320"/>
            <a:ext cx="9907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467480" y="3505320"/>
            <a:ext cx="10670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495680" y="5486400"/>
            <a:ext cx="0" cy="838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76600" y="1219320"/>
            <a:ext cx="0" cy="7617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2819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674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495680" y="4190760"/>
            <a:ext cx="304920" cy="152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333760" y="3276360"/>
            <a:ext cx="22860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91120" y="2819520"/>
            <a:ext cx="304560" cy="152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3505320"/>
            <a:ext cx="152280" cy="3045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4343400"/>
            <a:ext cx="0" cy="685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3505320"/>
            <a:ext cx="761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666520" y="3505320"/>
            <a:ext cx="7621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95680" y="2209680"/>
            <a:ext cx="0" cy="6098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ircular Motion Re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eate a demonstration that shows that centripetal force and acceleration acts towards the center of the circ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cribe or demonstrate an example of an inertial reference frame and a non inertial reference fra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rive the equation a=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/r using geometry and previously known equa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nus 2p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d the range of velocities a car can have while rounding a banked curve such that it will not skid up or down the bank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dius of curv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gle of bank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i="1" lang="el-GR" sz="3200" spc="-1" strike="noStrike">
                <a:solidFill>
                  <a:srgbClr val="ffffff"/>
                </a:solidFill>
                <a:latin typeface="Verdana"/>
              </a:rPr>
              <a:t>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efficient of friction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i="1" lang="el-GR" sz="3200" spc="-1" strike="noStrike">
                <a:solidFill>
                  <a:srgbClr val="ffffff"/>
                </a:solidFill>
                <a:latin typeface="Verdana"/>
              </a:rPr>
              <a:t>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bjectives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After this class I will be able t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lain Newton’s Law of Universal Gravi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cribe the Gravitational constant 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lain the inverse squar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lve gravitation probl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5720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Lesson #11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Topic: Universal Law of Grav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22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548640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versal Law of Gravit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411480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hat causes objects to accelerate towards the Earth? And why do the objects accelerate at -10m/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? Why not -50m/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? Why not -2m/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ton’s Law of Gravi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143000"/>
            <a:ext cx="761976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ery particle in the Universe attracts every other particle with a force that is directly proportional to the product of their masses and inversely proportional to the square of the distance between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particles have masses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d are separated by a distance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the magnitude of this gravitational force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514600" y="4419720"/>
                <a:ext cx="21337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066680" y="54100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re G is a constant called the universal gravitational constant that has been measured experiment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472428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4800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 = 6.673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-11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N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/kg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vitational For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Non-Contact force we’ve discuss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rst Fundamental Force of Nat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natural attraction between all mat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tremendously weak force when dealing with everyday obje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End User</cp:lastModifiedBy>
  <dcterms:modified xsi:type="dcterms:W3CDTF">2006-09-21T19:15:05Z</dcterms:modified>
  <cp:revision>35</cp:revision>
  <dc:subject/>
  <dc:title>Lesson #1 8/29/06 </dc:title>
</cp:coreProperties>
</file>